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16A-E169-4748-9CAC-341CCF7F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FF4-7BF9-4C8A-AF32-E1DB407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AC2-F249-4943-86F9-88F73CBA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54F-FE63-4E84-BE6A-C12B1E5E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87F-9B3A-4FA5-AEE9-21D94A70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E8F-DC67-4C87-B01B-6AA01C1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582-E0DC-464A-A0A8-229AB74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C51-C3DE-4657-8450-4122F35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4B6-D6B6-4CD5-A2F0-E093172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2F3-1C81-4613-B087-9164366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9B2-1771-446B-AD73-4B1D66C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D67-B98B-4836-974E-D38A876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302-E0FB-4E26-BAFE-3590196DA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overfishing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ged-bluefin-tuna-1055393-xl"/>
          <p:cNvPicPr/>
          <p:nvPr/>
        </p:nvPicPr>
        <p:blipFill>
          <a:blip r:embed="rId1"/>
          <a:stretch/>
        </p:blipFill>
        <p:spPr>
          <a:xfrm>
            <a:off x="0" y="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5866920"/>
            <a:ext cx="2057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a Hui 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stin 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71600" y="175248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verfis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hawaii%20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shing more than the fish can reproduce/ repopulate their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ostly places that over fish are places who loves to eat them: JAP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fin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7" descr="2004151620"/>
          <p:cNvPicPr/>
          <p:nvPr/>
        </p:nvPicPr>
        <p:blipFill>
          <a:blip r:embed="rId2"/>
          <a:stretch/>
        </p:blipFill>
        <p:spPr>
          <a:xfrm>
            <a:off x="15228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W300px_futuris-11OverFishing"/>
          <p:cNvPicPr/>
          <p:nvPr/>
        </p:nvPicPr>
        <p:blipFill>
          <a:blip r:embed="rId3"/>
          <a:stretch/>
        </p:blipFill>
        <p:spPr>
          <a:xfrm>
            <a:off x="4343400" y="3505320"/>
            <a:ext cx="464832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1328_under_the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Sole-fish"/>
          <p:cNvPicPr/>
          <p:nvPr/>
        </p:nvPicPr>
        <p:blipFill>
          <a:blip r:embed="rId2"/>
          <a:stretch/>
        </p:blipFill>
        <p:spPr>
          <a:xfrm>
            <a:off x="2895480" y="1523880"/>
            <a:ext cx="3124440" cy="277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k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609480" y="22860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verfished F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Picture 7" descr="monkfish"/>
          <p:cNvPicPr/>
          <p:nvPr/>
        </p:nvPicPr>
        <p:blipFill>
          <a:blip r:embed="rId3"/>
          <a:stretch/>
        </p:blipFill>
        <p:spPr>
          <a:xfrm>
            <a:off x="152280" y="449568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1219320" y="6019920"/>
            <a:ext cx="1733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nkfish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2666880" y="1600200"/>
            <a:ext cx="1609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e fi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3" descr="lagoon-cove-shrimp_10113"/>
          <p:cNvPicPr/>
          <p:nvPr/>
        </p:nvPicPr>
        <p:blipFill>
          <a:blip r:embed="rId6"/>
          <a:stretch/>
        </p:blipFill>
        <p:spPr>
          <a:xfrm>
            <a:off x="3124080" y="4800600"/>
            <a:ext cx="274320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4"/>
          <p:cNvSpPr txBox="1"/>
          <p:nvPr/>
        </p:nvSpPr>
        <p:spPr>
          <a:xfrm>
            <a:off x="3733920" y="3657600"/>
            <a:ext cx="12477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rim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Picture 16" descr="WhaleSharkWENN_468x336"/>
          <p:cNvPicPr/>
          <p:nvPr/>
        </p:nvPicPr>
        <p:blipFill>
          <a:blip r:embed="rId7"/>
          <a:stretch/>
        </p:blipFill>
        <p:spPr>
          <a:xfrm>
            <a:off x="6095880" y="1828800"/>
            <a:ext cx="28958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WordArt 17"/>
          <p:cNvSpPr txBox="1"/>
          <p:nvPr/>
        </p:nvSpPr>
        <p:spPr>
          <a:xfrm>
            <a:off x="5943600" y="3124080"/>
            <a:ext cx="1447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ar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Picture 19" descr="svTUNA_wideweb__470x339,0"/>
          <p:cNvPicPr/>
          <p:nvPr/>
        </p:nvPicPr>
        <p:blipFill>
          <a:blip r:embed="rId10"/>
          <a:stretch/>
        </p:blipFill>
        <p:spPr>
          <a:xfrm>
            <a:off x="6019920" y="4465800"/>
            <a:ext cx="2952720" cy="21301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0"/>
          <p:cNvSpPr txBox="1"/>
          <p:nvPr/>
        </p:nvSpPr>
        <p:spPr>
          <a:xfrm>
            <a:off x="6095880" y="59436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un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http://www.thewe.cc/thewei/_/images10/japan/check_quality_of_tuna.jpe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ces like Japan consume a lot of fish so overfishing there is especial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ot of places eased up on overfishing,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th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ltic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y of Bis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457200" y="304920"/>
            <a:ext cx="82296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ccurrence of Overfish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http://www.lawrenceripsher.com/images/www.lawrenceripsher.com/photos/uncategorized/2008/05/14/img_3272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3520" y="2895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We have been trying to stop over fishing, and many places have showe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Other places who eats fishes daily and in large amount, like Japan, still over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146160" y="23760"/>
            <a:ext cx="8778600" cy="2013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155520" y="-2033640"/>
            <a:ext cx="5715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55520" y="-2033640"/>
            <a:ext cx="5715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www.treehugger.com/ocean-turtle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ft over nets and other material are dumped into the ocean and is a hazard to other sea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://www.youtube.com/watch?v=En0hBxR8YhE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://www.youtube.com/watch?v=d83Wc6S9r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dator who prey on a specific fish will either adapt or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of different species will dec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2"/>
          <a:stretch/>
        </p:blipFill>
        <p:spPr>
          <a:xfrm>
            <a:off x="-176040" y="-212760"/>
            <a:ext cx="9685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whiteeyebrows.com/wp-content/uploads/2009/01/screaming-bab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ietary impact, intake less fish and find a substitute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nforcement, nations can control territorial waters, but some doesn’t enforce th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4" descr=""/>
          <p:cNvPicPr/>
          <p:nvPr/>
        </p:nvPicPr>
        <p:blipFill>
          <a:blip r:embed="rId2"/>
          <a:stretch/>
        </p:blipFill>
        <p:spPr>
          <a:xfrm>
            <a:off x="743040" y="42840"/>
            <a:ext cx="7870680" cy="1852560"/>
          </a:xfrm>
          <a:prstGeom prst="rect">
            <a:avLst/>
          </a:prstGeom>
          <a:ln w="0">
            <a:noFill/>
          </a:ln>
        </p:spPr>
      </p:pic>
      <p:sp>
        <p:nvSpPr>
          <p:cNvPr id="76" name="Rounded Rectangular Callout 8"/>
          <p:cNvSpPr/>
          <p:nvPr/>
        </p:nvSpPr>
        <p:spPr>
          <a:xfrm>
            <a:off x="0" y="3733920"/>
            <a:ext cx="4267080" cy="2743200"/>
          </a:xfrm>
          <a:prstGeom prst="wedgeRoundRectCallout">
            <a:avLst>
              <a:gd name="adj1" fmla="val 62611"/>
              <a:gd name="adj2" fmla="val 31217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9" descr=""/>
          <p:cNvPicPr/>
          <p:nvPr/>
        </p:nvPicPr>
        <p:blipFill>
          <a:blip r:embed="rId3"/>
          <a:stretch/>
        </p:blipFill>
        <p:spPr>
          <a:xfrm>
            <a:off x="122400" y="3633840"/>
            <a:ext cx="41511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lisisoft.com/imglisi/5/Screensavers/40208s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verfishing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euters.com/article/2007/06/22/environment-usa-fishing-dc-idUSN22492712200706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snbc.msn.com/id/32222783/ns/world_news-world_environ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23:13Z</dcterms:created>
  <dc:creator>SASD</dc:creator>
  <dc:description/>
  <dc:language>en-US</dc:language>
  <cp:lastModifiedBy>SASD</cp:lastModifiedBy>
  <dcterms:modified xsi:type="dcterms:W3CDTF">2011-02-14T13:35:29Z</dcterms:modified>
  <cp:revision>14</cp:revision>
  <dc:subject/>
  <dc:title>Slide 1</dc:title>
</cp:coreProperties>
</file>